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EA6-1755-4E6E-B834-D150612D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930-5123-4F81-BB51-2A8286C6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39C-9709-4505-8E6C-C805010A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E169-59E0-4B40-9286-88966A7E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047B-BEFC-44DB-98EB-2922F326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97C-22C5-4A52-BCB4-13A64B5F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946-AC67-4976-8DC2-D2E44644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C873-0917-4950-ADC0-A2AA62C5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175-D052-416A-8BBB-8D71EB95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1FF6-CA4F-418E-AB17-1DB92D93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DEFF-B3A9-4967-A10E-65DC40AF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2FE4-738E-4835-81A7-E9B25DCC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114C-BABA-4E78-A3D0-F0F9AEF1B1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Rar$DI05.703/&#29677;&#32423;&#24120;&#35268;&#32771;&#26680;%2010&#26376;.doc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Rar$DI05.703/&#26399;&#20013;&#32771;&#35797;&#30446;&#26631;.xls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341360"/>
            <a:ext cx="755964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考试习惯指导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820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将解题的辅助条件列在草稿纸上，有助于消除紧张感，以便集中注意力进入解题状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有粗心习惯者，验算时尤应注意简单的题目，因为这样的题目往往容易忽视而出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平时应养成答题时不受干扰的心态，不必要求周围绝对安静，这样可以练就在一般环境下专心答题的好习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不论是测验还是考试，结束后不要急于与人对答案，而应集中精力投入下一场考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0"/>
            <a:ext cx="571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策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统览试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609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适度紧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295280"/>
            <a:ext cx="4800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草稿纸有序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1371600"/>
            <a:ext cx="312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看分花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81080"/>
            <a:ext cx="3962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先易后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312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简明扼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743200"/>
            <a:ext cx="3809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卷面整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2743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力争不丢一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350532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小秋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1143000"/>
            <a:ext cx="74674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常规管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宿舍问题：物品摆放、无文化氛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1430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安全、纪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755640" y="914400"/>
            <a:ext cx="7848720" cy="438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我们坚信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一定能夺取南通联考辉煌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0"/>
            <a:ext cx="76960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几个时间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本周六、日进行期中考前模拟考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2~2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周周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周三进行南通联考（期中考试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日高考会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11812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问题：压力意识不够，目标不很明确，注意力发散、浮躁，吃苦精神不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609480"/>
            <a:ext cx="8534520" cy="38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做一个怎样的高三学生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明确的目标定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强烈的危机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饱满的自信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坚强的意志力（注意力、耐错力、抗干扰力、耐苦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流水线式的学习习惯，效率要高，讲究实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90720"/>
            <a:ext cx="8077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登一登，进山门，这里不需要豪言壮语，需要有战胜自我的勇气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拼一拼，过山冈，这里拒绝懒惰浮躁，需要有百折不回的信念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搏一搏，上山顶，这里排斥骄傲自满，需要有勇攀高峰的意志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一定能在（高校）山顶相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219320"/>
            <a:ext cx="80769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面对挫折要勇敢，抛开忧愁，不放弃努力，就会从挫折中提炼出成功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38080"/>
            <a:ext cx="7848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一个怎样的班级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风：班风（到班要静、氛围要浓、竞争激烈、风气要正）；学风（苦、乐、高）；作风（起居有规、进出有纪、宽松有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心：心理、用心、信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力：意志力、注意力、动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竞争与希望同在；压力与动力并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9907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础过关总结工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份比较：明显下滑，相当一部分同学不重视，出现低分严重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良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及格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0"/>
            <a:ext cx="8458200" cy="54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法指导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考前——信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精神饱满进考场，轻轻松松看试卷，认认真真做题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考中——细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审视题目莫紧张，看清要求莫浮躁，写全过程莫跳跃，仔细检查莫遗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础题不大意，拿足分；中等题不麻痹，拿稳分；偏难题不急躁，拿本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考后——恒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考后不去想，准备下一场；考分虽是宝，提升更重要；考好莫骄傲，有人比我好；考差莫泄气，下次再努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养成良好的考试习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2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考试成绩与考试习惯之间有着密切联系，养成良好的考试习惯，就应该要求自己把平时的每次答题都当作正式考试来认真对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拿到试卷后应先把全卷浏览一遍，并大致估算一下完成每一部分试题需花的时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试题的设置往往由易到难，所以应从头开始答题，这样有利于保持良好的解题心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遇到难题时切忌“卡壳”，可跳过难题先做其它题目，等全卷完成后再答难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2:28:3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56:41Z</dcterms:modified>
  <cp:revision>23</cp:revision>
  <dc:subject>主题班会课件(分28大类): http://shop62905894.taobao.com</dc:subject>
  <dc:title>主题班会课件(分28大类): http://shop62905894.taobao.com</dc:title>
</cp:coreProperties>
</file>